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E1A-AF64-4DC7-B392-971082F7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567-115E-4079-A124-429FF38E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6F944-87E5-4F61-8749-FDBC5B33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CD1E7-8608-46E5-B24A-048EFEA6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0F682-AD5A-4B3B-A384-238F3814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0BDE9-809C-48BE-BC84-3522092B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EC81F-4BD1-4D3A-BAAB-26521C4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FB86E-E055-42B1-98C6-440062BF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A3AB9-94A6-4F42-80AA-09AD59E6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06D9B-4F69-4B67-83C9-E3ACFD06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9ACC6-6114-4A8C-BE92-22A93698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B9BB9-F4AF-40DF-B6C3-06B4092B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055-073A-420C-8042-BD262BDB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5E754-D3FA-4F28-AD0B-D6A53833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30BC9-9B55-4419-90A8-C6BDB610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B079B-D3C3-4AF3-B3A7-41402F75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E322C-BF96-4B16-A584-9460F925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1F13C-92B2-47C3-A05B-C95E6AC7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41388-4516-48B4-A05A-96F46D3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1ADB7-03D6-4A45-95F0-3C55D7F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A1BA6-4F9C-433F-B3B5-BF90901D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E8EFD-D720-4E0A-BC5D-4156EC22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C60A7-B3AA-46B8-920D-08548497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266-ABC5-47B3-8A0A-3D2852DA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6668E-96CE-4D6D-990E-3B95D295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16EC8-C001-4923-9F89-EF40A2F6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663FC-00C3-4F90-AB5D-784AE44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A8F79-372C-478C-95CE-0509BE66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70203-75E5-4D8C-8D10-27C3779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40689-2971-4377-A2B4-44532AEE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AF4DB-54C0-4F3D-AFDD-C1C44931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2570A-ADAB-4E42-A7CB-1A84677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42DCA-DDE2-4883-8E14-EB6AD14B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1F7F1-A979-4CDA-A6F6-8A9C16D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8E89-A6A3-4809-A293-E062139F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476BF-0E6A-48D1-BF68-540CBE63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D2CAD-6C84-4EF0-A012-5D39752D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DE007-DB8D-4A43-9249-E5509B22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40CEF-9405-4E08-AE88-76DBE4B5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E3C1E-030F-455D-8CDE-4778F256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D8740-6C6C-4A14-986D-9A0AF6A7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760373-C892-4456-928C-33D54DA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1C5CB-7D39-4344-ABE9-5AE84979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C816C-9DDC-4814-8E80-28ACCCD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86B20-573C-43BA-AE89-613D3F05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72DB-2D76-43FD-853C-C6982527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5624F-548F-404B-9DBC-17E53F02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F66FC-6968-4913-9308-146B253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45A2B-3350-4E39-A9E6-CDBFD8E9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41FAA-4CC4-4C23-88FC-D677513D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BEAA6-215D-4FF2-95F0-37897C5B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DE88-C575-48AD-A3A1-200C1A70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F8EE-831C-4123-87E3-79ED9F0E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965D-6F16-4B0F-AD1D-2BB57655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FF9F-352E-47BB-8FE7-ED34D55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0551-65C5-4C65-96F1-96562A21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A0A-3B9E-4318-AF42-8DDB7EBE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DCAD-B0B6-4225-AE7B-E610D54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34D3-419B-4C5C-8288-3AA0691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0F59-4DEE-46BE-AE7C-8F59A82A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F473-F170-457D-8715-16ABDFBC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C515-0B60-4659-9FE8-9DF1D32C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1C7D-8638-4FA9-B81E-180D19DF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F673-1E02-4833-85AB-3F94CB6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46E4-899C-4825-ADE1-43031E9F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2EA4-ED6B-4B5E-9153-5E4380C0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1DF30-9951-4403-986C-B95CEB0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0B3-73F8-492E-B424-47CB1F59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A579-C2E6-4512-97B4-59160DC2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8C2A-3CE1-47BC-ABD5-9B9A0C6F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55F4E-5023-459D-B1D4-ABD68DDE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D418-4860-4C24-A5A5-0F8C10F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F302-3C8F-429D-8650-B6BE9223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ED60-1515-4341-8741-FBE21591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635A-E198-4F3A-AC55-AC626288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5D8D-726A-433D-B60F-E2F827B0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1CC5-C2C8-4E37-A477-964B985D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6D17-51BF-42AF-8EDD-1E3D8007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2F9-306F-4B01-95BF-FDFBA7D6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5BE5-CAA4-4FB6-9C41-2D5EF5E8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6C897-3626-4D32-B426-89652D93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27BB-69B8-454C-B054-84537F47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A99B-58D7-43B4-A962-611C37CD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65C25-1434-4B05-8E4E-04917B8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8670D-99F7-4930-8705-B7DCC32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78DE-4D71-43BB-B5E0-A50CF3AE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DEE8-EDDB-4949-9162-6F40DCFA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8D38-0F8D-41FF-B3E3-7EC1784F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4E67-61E5-4CD7-9CAC-5EF1CFDF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709-3FCD-4181-AAC8-BC1B84E6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82D64-F4CC-4435-94CC-5E90562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3A93D-B575-477C-938F-55B9309C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6A005-F719-498C-AD00-256F7A1B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24E60-602A-4272-9C1C-1275E72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6F95-5309-445D-B626-D85629D6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0253D-7AA3-46F0-B314-405AE393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A2C26-238D-4AF7-9D90-3467E9D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E521-5634-40BB-8B68-5A2F5D65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8557-5AAA-4412-89FD-C31B418D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A2B7-FFA9-475E-8EBE-D0D8966D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276-4EED-4BD3-A467-44176FE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84726-C53D-44C6-B4E2-AF0D4B4F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7ECD6-E53D-42E5-AB25-60B12CB9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4447-A79C-4528-8DA3-BBA76503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0645F-CD99-4556-87EF-2D3B0360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8CD2-38F9-4311-A480-BB16AFBA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441D1-70E8-4D4B-AF63-712B2C31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C4153-1928-478A-9F76-3F30EF56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66BC-C445-4134-BDA7-7EBF50F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9D0CB-EB05-4F42-A417-C035347D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C9F98-08BC-4D9B-A82E-A4E289B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330-1D02-48EA-9F7B-4B950A9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DB67-3CF5-4819-A019-08DB9D3E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F607B-7A10-4942-ADC8-9974C13F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289F-2E0B-455F-931C-979CA011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498D-A3D8-4B6F-91BB-F1A606EC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AE6F3-9C72-4C8A-8CF2-3CF7F292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0867-AF63-4A14-8D27-73C5587C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299F-5428-4B5A-887E-7D09F23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C5B2-1D57-41A3-BFA2-17B59C13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92C29-F3BB-47E7-841B-8EFA2962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72D7-3946-41CA-B0B8-B4EE5EC2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9FD-4ACF-4675-8355-8DEC18E9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98142-6D74-4E39-B34B-3562E8ED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92198-8CC9-4F1B-8F7E-848C36D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8A9C8-BB8D-4177-A254-EA8D2DA4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B5757-B234-42EA-AAEA-FAB8864C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4AE43-95F0-4B26-B99E-72D241B2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47D0E-A48A-4771-A530-03CAEB4F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F5D67-230B-4386-8BDA-42087188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EE0A-987C-473C-B879-8595F58C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A4B22-C4D4-4784-BD90-B7C34C02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1F145-3323-4436-B191-E12B6FA2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C73-97F2-4F55-87E0-AFFC9646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89C8A-460B-413C-93CF-0E327ECC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0AF6C-7044-4ABF-86B4-F9FB2AD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9AA4F-E723-4925-A609-4625D09C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07C16-EB32-4DF2-8722-2CCE0494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88C0-9B29-4CC0-929D-969389B7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FDF71-5D93-4698-B036-DB095732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3C1C4-B9D7-4386-B810-D587D76C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63BED-C519-44E4-A9DE-22C5B77E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87D78-1851-4F7E-A910-C0C87B19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918F0-9485-4EF4-BB09-C07D39FF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836C-363B-46CC-A66D-D2B7974DB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12CC-3186-4FF2-8FF1-5B4521500F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01A6-343D-461D-AA92-7B5C22D01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3B00-E1A2-4AAB-97B9-2C5451A88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8604-8406-495C-BD96-B0E3E1CB9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1D8F-EDE0-4FBF-AB3E-ABF6F2F36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26E0-941E-4E6C-8028-CFB9B73AC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8B02-C32A-492C-B59A-A1E58BD5B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2F3B-FB05-4D20-9849-A080A0E3BA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3E8F-51D6-444C-A85C-904DB1860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65A4-AAB4-457C-98B2-E8DFF25490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B161-0C3E-4BD0-B142-C8F336CFB1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hsgifted.wikispaces.com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incetonreview.com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LLEN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range seats in a circ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range yourselves ALPHABETICALLY by the first letter of YOUR MIDDLE NA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ve an empty seat for “K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rliest letter should be seated in the 12’oclock pos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no middle name or two people with the same middle name, use the LAST Letter of your FIRST (formal) na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SESSMENT – time &amp; accu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enty-seven minutes moves quick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ing an assignment without “nagging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vation” nee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ectations vs excu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dn’t know” – 3 reliable sources (+ fourth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bhsgifted.wikispaces.co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n’t do” – not a choic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mmunication – in person, e-mail, phon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 - Seminar #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s – better student, better pers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d Characteristics  vs. Uniq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 - Seminar #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inceton Review site/tool </a:t>
            </a: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p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SAT, S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re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lleg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ols in gener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r inpu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22:03Z</dcterms:created>
  <dc:creator>bguenther</dc:creator>
  <dc:description/>
  <dc:language>en-US</dc:language>
  <cp:lastModifiedBy>bguenther</cp:lastModifiedBy>
  <dcterms:modified xsi:type="dcterms:W3CDTF">2009-10-22T20:44:10Z</dcterms:modified>
  <cp:revision>3</cp:revision>
  <dc:subject/>
  <dc:title>Lessons Learned</dc:title>
</cp:coreProperties>
</file>